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0DF-4125-405D-B7F2-231E2C2C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046-F50D-483A-899B-623FB61E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95D-0B1C-4617-A2DC-A2C499AA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D8B9-82E4-4FA9-B5E3-27A54DCD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434-C0AF-4DB0-9BAB-11CC1233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9FA-A5DA-40A0-9788-2128A950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6AC-419D-4E56-A12F-C32B1E5A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F57-AA10-45B0-BFD1-B76E0A7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91A-7BE0-4E31-8E4B-54419F7E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BEA-87BE-4FE1-AB5D-BE7B0372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454-B9F2-4057-9F76-E9BC6745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078-3DBA-41FF-901F-E9069FE3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EDEA-603A-49FA-87DB-919C86F93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838080"/>
            <a:ext cx="8381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Един  ден!!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09680" y="228600"/>
            <a:ext cx="6769080" cy="55792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bbe0e3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ahoma"/>
              </a:rPr>
              <a:t>Един ден аз разбрах,                    че Христос тук дойде             за мен умря от люб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ahoma"/>
              </a:rPr>
              <a:t>Говори нежно Той на мен: “обичам те“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ahoma"/>
              </a:rPr>
              <a:t>Ела такъв какъвто си    ти при Мен “обичам те”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5280" y="685800"/>
            <a:ext cx="7391520" cy="436032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bg-BG" sz="4000" spc="-1" strike="noStrike">
                <a:solidFill>
                  <a:srgbClr val="000000"/>
                </a:solidFill>
                <a:latin typeface="Tahoma"/>
              </a:rPr>
              <a:t> чуй ме ти,</a:t>
            </a: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4000" spc="-1" strike="noStrike">
                <a:solidFill>
                  <a:srgbClr val="000000"/>
                </a:solidFill>
                <a:latin typeface="Tahoma"/>
              </a:rPr>
              <a:t>за теб умр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bg-BG" sz="4000" spc="-1" strike="noStrike">
                <a:solidFill>
                  <a:srgbClr val="000000"/>
                </a:solidFill>
                <a:latin typeface="Tahoma"/>
              </a:rPr>
              <a:t> колко мъки изтърпя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ahoma"/>
              </a:rPr>
              <a:t>Между два кръста                 бях разпна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ahoma"/>
              </a:rPr>
              <a:t>/ зарад теб изтърпях                            и на кръста умрях. /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3880" y="289080"/>
            <a:ext cx="6172200" cy="7407720"/>
          </a:xfrm>
          <a:prstGeom prst="rect">
            <a:avLst/>
          </a:prstGeom>
          <a:gradFill rotWithShape="0">
            <a:gsLst>
              <a:gs pos="0">
                <a:srgbClr val="009999">
                  <a:alpha val="20000"/>
                </a:srgbClr>
              </a:gs>
              <a:gs pos="100000">
                <a:srgbClr val="dddddd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ahoma"/>
              </a:rPr>
              <a:t>Колко често, Господи, забравям аз,                                     че там на кръста                     за мен умря                             от люб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ahoma"/>
              </a:rPr>
              <a:t>Моля те, Исусе,                     прости ми Ти,                                       о, дай ми сила                                      да помня винаги    любовта 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13160" y="3460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517680"/>
            <a:ext cx="7467840" cy="43603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dddddd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99cc00"/>
                </a:solidFill>
                <a:latin typeface="Tahoma"/>
              </a:rPr>
              <a:t>О, чуй ме ти, за теб умр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99cc00"/>
                </a:solidFill>
                <a:latin typeface="Tahoma"/>
              </a:rPr>
              <a:t>О, колко мъки изтърпях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99cc00"/>
                </a:solidFill>
                <a:latin typeface="Tahoma"/>
              </a:rPr>
              <a:t>Между два кръста                                       бях разпна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99cc00"/>
                </a:solidFill>
                <a:latin typeface="Tahoma"/>
              </a:rPr>
              <a:t>/ зарад теб изтърпях                                          и на кръста умрях. 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6:12:00Z</dcterms:created>
  <dc:creator>TrifonTrifonow</dc:creator>
  <dc:description/>
  <dc:language>en-US</dc:language>
  <cp:lastModifiedBy>TrifonTrifonow</cp:lastModifiedBy>
  <dcterms:modified xsi:type="dcterms:W3CDTF">2005-12-28T06:12:22Z</dcterms:modified>
  <cp:revision>1</cp:revision>
  <dc:subject/>
  <dc:title>Slide 1</dc:title>
</cp:coreProperties>
</file>